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B33-A9F7-4B14-A5AD-FB23700D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847-7A8B-4E6D-892A-2C7702FC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D77-B77A-42C0-A9D5-73305BDD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30CB-9564-4C34-9EDE-45AAF13C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4AB-BD70-4A0C-BEA0-3C5FEEC4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2B4-55EB-4C88-A3C3-285C4FF8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7654-7129-4895-BFC7-C902CDEC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6B4-0794-4870-8444-B5A2AFE7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57E-BC83-4E78-A4D2-D6240E0B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5BAE-C618-4E4E-ACAD-6E3D359B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0FF-5094-4DFA-ADDE-3FC977F0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2EB-90D8-4BB1-8507-5740EE6F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D13A-68CC-41B1-8D2E-152F3F684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xercises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on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Measures of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Disease Frequenc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7467480" cy="1067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4419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7467480" cy="1066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581280" y="5867280"/>
            <a:ext cx="1613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4674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467480" cy="990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086600" y="5257800"/>
            <a:ext cx="11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cb017"/>
                </a:solidFill>
                <a:uFillTx/>
                <a:latin typeface="Arial"/>
              </a:rPr>
              <a:t>33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467480" cy="431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4572000"/>
            <a:ext cx="7467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047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14400" y="3581280"/>
            <a:ext cx="7467480" cy="2514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00200" y="4419720"/>
            <a:ext cx="6019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676520" y="5486400"/>
            <a:ext cx="5867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7467480" cy="990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676520" y="5410080"/>
            <a:ext cx="52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14400" y="5486400"/>
            <a:ext cx="746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14400" y="5486400"/>
            <a:ext cx="7467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3962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34340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90720" y="5334120"/>
            <a:ext cx="7467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14400" y="5257800"/>
            <a:ext cx="7467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162920" y="5867280"/>
            <a:ext cx="12952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1600200"/>
            <a:ext cx="62481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7820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010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858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39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239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2968560"/>
            <a:ext cx="74678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5105520"/>
            <a:ext cx="670536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7238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441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7T22:28:54Z</dcterms:modified>
  <cp:revision>105</cp:revision>
  <dc:subject/>
  <dc:title>The Art in the State of the Art</dc:title>
</cp:coreProperties>
</file>